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286-16C2-4488-8E29-8AEF793F0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599-2ECE-4DD5-BE0C-4A4E56814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7D4-59C9-4422-87CA-941F90D06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7E51-BD43-4061-9FB6-75FE96077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1E9-4041-431C-8DD7-B397970BE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4C1-E4EA-4A26-9BC2-9D42B22C41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4277-4201-4221-9CB4-3F304F4D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F895-5AA7-4B7A-BB52-EFCDD6D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9929-ADDB-4ADD-ACB2-22491C3A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B4EE-E3E6-474B-B8A4-E07A5BAB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441-4F18-4698-930B-70986DE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6EF-B0E6-44DA-86AF-56ECF27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596-DFAF-43E7-8702-C0F205F0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D38-23B1-40B6-9483-16D0C9D9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622D-9ABC-4EB4-88A6-DF0F500E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56FC-AE9B-4A78-A732-8EC8D574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86B-779A-491B-93B5-6B8EF0F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7D14-C34D-40DB-978D-8DA6CF18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E41-4890-4A25-9BD0-5EC9C70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47B-A7CE-4E8B-B17B-D8434B3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F4B-7977-4FDA-881D-E42CC39A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D63-42B7-41E6-88C0-6FFE0907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BB8-1D2A-4B4C-8B32-5933F477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22B2-B55E-4C30-9630-18C0690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A16B-052B-4BB3-A86A-F0C6C94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97A5-DE1A-49C0-881A-E5418916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363D-ADCE-4B74-AA4B-E9EBB1E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076D-490F-4156-B196-E6B1F72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3377-EA96-46D0-A90F-6F2C9A6E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A9DC-D042-4C3A-A20A-10DD9EA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D10-4F5F-4B30-B9BD-6C4EF1960D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3E2-3D59-48A8-88A5-57D298719A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Некоторые аспекты экономико-правового регулирования образовательной деятельности в ДО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95280" y="443664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. В. Лукашева, кан.экон.нау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ав.каф. экономики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авового обеспеч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бразовательной деятельност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ГБОУ КК ККИДПП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ukasheva-ov@mail.r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закупочной деятельности ДО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ступление в силу 44-ФЗ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23-ФЗ для ДО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деральный закон от 05.04.2013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№ 44-ФЗ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"О контрактной системе в сфере закупок товаров, работ, услуг для обеспечения государственных и муниципальных нужд“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равнении с Федеральны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ом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№ 94-Ф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Что не меняе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3300"/>
                </a:solidFill>
                <a:latin typeface="Times New Roman"/>
              </a:rPr>
              <a:t>Подход к централизации закуп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езисы о комисс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когда, кем создаются, требования к членам, виды комиссий, замена члена комиссии, квору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Национальный р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ы </a:t>
            </a: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ребования к УР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участникам процедур закуп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Штрафные сан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 просрочку обязательств по контра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Возможность отмены процедуры закуп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Размер обеспечения заявок на участие в тор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Положения по уклонистам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 о подаче сведений в РН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Размер обеспечения исполнения контракта и права / обязанности заказчика по его установ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Положения по реестру контрактов, реестру недобросовестных поставщ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Случаи закупки у единственного поста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Возможность обжалования действия (бездействия) заказчика, коми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13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9999cc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836640"/>
          <a:ext cx="8713800" cy="5927760"/>
        </p:xfrm>
        <a:graphic>
          <a:graphicData uri="http://schemas.openxmlformats.org/drawingml/2006/table">
            <a:tbl>
              <a:tblPr/>
              <a:tblGrid>
                <a:gridCol w="4505400"/>
                <a:gridCol w="42084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94-Ф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4-Ф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Закупки бюджетных учре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ые учрежден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е подпадают под действие 94-ФЗ (закупают по 223-ФЗ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ые и бюджетные учрежден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 94-ФЗ (бюджетны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собенности по НИ и ОК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учрежден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 44-ФЗ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мках выполнения гос. или мун. задан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ных ими контрактов (договоров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счет бюджетных инвестиций (субсидий на капитальные влож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ые учреждения – расходование субсидии на капитальные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учреждения могут без 44-ФЗ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если осуществляю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3-х лиц в ходе исполнения контрактов (договоров) (осуществляют по 223-ФЗ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ание внебюджетных, грантовых средств (осуществляют по 223-ФЗ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по НИОКРам, технологическим работам за счет грантов (осуществляют по 223-ФЗ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. 26 44-ФЗ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ни возможной централизации государственных и муниципальных закупок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6236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овая централизация (или централизация функций определения поставщи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ая централ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омственная централ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Федеральный закон РФ от 18 июля 2011 г. N 223-ФЗ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«О закупках товаров, работ, услуг отдельными видами юридических лиц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для заказчиков по 223-Ф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формационная открытость закупк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вноправие, справедливость, отсутствие дискриминации и необоснованных ограничений конкуренции по отношению к участникам закупк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целевое и экономически эффективное расходование денежных средств на приобретение товаров, работ, услуг (с учетом при необходимости стоимости жизненного цикла закупаемой продукции) и реализация мер, направленных на сокращение издержек заказчик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тсутствие ограничения допуска к участию в закупке путем установления неизмеряемых требований к участникам закуп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вая основа закупки (ч.1 ст.2 223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238572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03640" y="1773360"/>
            <a:ext cx="2386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К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88000" y="1773360"/>
            <a:ext cx="2386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23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16720" y="1773360"/>
            <a:ext cx="2386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фед.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276720" y="2781360"/>
            <a:ext cx="2385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о  закупк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50920" y="3716280"/>
            <a:ext cx="2736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ламентирует закупоч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076720" y="3716280"/>
            <a:ext cx="3598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 содержать требования к осуществлению закупок, в т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79280" y="5229360"/>
            <a:ext cx="331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подготовки и проведения процедур закупок (включая способы закуп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132000" y="5229360"/>
            <a:ext cx="331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овия применения процедур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227640" y="5229360"/>
            <a:ext cx="2592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заключения и исполнения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50920" y="1700280"/>
            <a:ext cx="2449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916360" y="1700280"/>
            <a:ext cx="1584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4716360" y="1700280"/>
            <a:ext cx="1150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227640" y="1700280"/>
            <a:ext cx="2449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419640" y="2708280"/>
            <a:ext cx="2089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468360" y="3716280"/>
            <a:ext cx="24494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003640" y="3716280"/>
            <a:ext cx="3672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468360" y="5229360"/>
            <a:ext cx="2808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3492360" y="5229360"/>
            <a:ext cx="2592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6300720" y="5229360"/>
            <a:ext cx="2521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 flipH="1">
            <a:off x="1476360" y="765000"/>
            <a:ext cx="2519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4140360" y="765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4859280" y="765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5148360" y="765000"/>
            <a:ext cx="2087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H="1">
            <a:off x="1476360" y="3284640"/>
            <a:ext cx="194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9"/>
          <p:cNvSpPr/>
          <p:nvPr/>
        </p:nvSpPr>
        <p:spPr>
          <a:xfrm>
            <a:off x="5508720" y="3141720"/>
            <a:ext cx="172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0"/>
          <p:cNvSpPr/>
          <p:nvPr/>
        </p:nvSpPr>
        <p:spPr>
          <a:xfrm flipH="1">
            <a:off x="1692000" y="4508640"/>
            <a:ext cx="410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1"/>
          <p:cNvSpPr/>
          <p:nvPr/>
        </p:nvSpPr>
        <p:spPr>
          <a:xfrm flipH="1">
            <a:off x="4788000" y="450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6732720" y="450864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4643280" y="76500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681192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ормативное подушевое финансирова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ы нормативно-подушевого финансирования учреждений дошкольного образова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е услуги в объеме ФГОС вне зависимости от формы собственности дошкольных учреждений финансируются за счет средств субъекта РФ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е услуги оплачиваются родителями и дотируются за счет средств муниципалитетов на адресной основе в зависимости от материального благосостояния родит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ы по развитию и содержанию материальной базы несет собств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веллы в нормативном правовом регулировании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идеи методических рекомендаций, заключаю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66760"/>
            <a:ext cx="82296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е должно осуществляться на основе определения стоимости стандартной бюджетной услуги в расчете на одного воспитан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 учет специфики контингента воспитан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 должен учитывать законодательно определенные натуральные нормы (санитарные, наполняемость групп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ика расчета должна учитывать региональны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A6D-AF67-4C62-A8BE-55D6EF29473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468360" y="765000"/>
            <a:ext cx="84247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Разработки на уровне учреди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одика расчета нормативов затрат на оказание услуги по реализации основной общеобразовательной программы дошкольного образования и созданию условий для осуществления присмотра и ух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одика расчета нормативов затрат на оказание услуги по присмотру и уходу за детьми, осваивающими образовательные программы дошкольного образования в дошкольных образовательных организациях, из категорий семей, для которых установлены льготы по снижению или отмене родительской платы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одика расчета размера родительской платы за присмотр и уход за детьми, осваивающими образовательные программы дошкольного образования в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установления категорий родителей (законных представителей), которые освобождаются от оплаты услуг по присмотру и уходу или для которых размер платы снижается, а также порядок снижения размера пл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 «Педагог (педагогическая деятельность в сфере дошкольного, начального общего, основного общего, среднего общего образования) (воспитатель, учитель)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еллы в правовом регулировании педагогической деятельности в ДО в свете введения ФГОС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каз Министерства труда и социальной защиты РФ от 18 октября 2013 г. N 544н «Об утверждении профессионального стандарта «Педагог (педагогическая деятельность в сфере дошкольного, начального общего, основного общего, среднего общего образования) (воспитатель, учитель)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тупает в силу с 1 января 2015 год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ера нормативного регу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 будет применять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установлении систем оплаты тру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бования к образ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ее профессиональное образование или среднее профессиональное образование по направлениям подготовки «Образование и педагогика»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спита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ы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ые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е характеристи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соблюдать правовые, нравственные и этические нормы, следовать требованиям профессиональной эт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ход ДОО на эффективный контракт как условие развития кадрового потенциала ДО и соответственно формирования нового качества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оответствие с ФГОС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ая правов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каз Президента Российской Федерации от 07 мая 2012 г. № 597 «О мероприятиях по реализации государственной социальной политик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оссийской Федерации от 26 ноября 2012 г. № 2190-р «Программа поэтапного совершенствования системы оплаты труда в государственных (муниципальных) учреждениях на 2012-2018 годы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от 30.12.2012 N 2620-р «Об утверждении плана мероприятий ("дорожной карты") "Изменения в отраслях социальной сферы, направленные на повышение эффективности образования и науки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каз Министерства труда и социальной защиты РФ от 4 апреля 2013 г. N 138 Об утверждении и организации выполнения плана мероприятий по реализации «дорожных карт» изменений в отраслях социальной сферы, направленных на повышений эффективности здравоохранения, образования и науки, социального обслуживания населения в 2013-2018 годах в федеральныз государственныз учреждениях, подведомственных Минтруду Росс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ативная правов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о Минобрнауки от 20.06.2013 . N АП-1073/02 «Рекомендаций по разработке органами государственной власти субъектов РФ и органами местного самоуправления показателей эффективности деятельности государственных (муниципальных) учреждений в сфере образования, их руководителей и отдельных категорий работ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12.04.2013 N 329 «О типовой форме трудового договора с руководителем государственного (муниципального) учрежде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труда и социальной защиты Российской Федерации от 26.04.2013 №167н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ые рекомендации по установлению на федеральном, региональном и местном уровнях систем оплаты труда работников государственных и муниципальных учреждений н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аз Минтруда России №167н от 26 апреля 2013 г. 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. 5 ст. 108 Федерального закона № 273-ФЗ предусматривает, что наименования и уставы образовательных учреждений подлежат приведению в соответствие с настоящим Федеральным законом не позднее 1 января 2016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ера действ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ие Программы распространяется на системы оплаты труда работников федеральных государствен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а рекоменду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государственных учреждений субъектов Российской Федерации и муниципаль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ация Программы осущест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 отношении федеральных государственных учреждений - Правительством Российской Федерации, федеральными органами исполнительной власти, осуществляющими функции по выработке и реализации государственной политики и нормативно-правовому регулированию в соответствующей сфере, а также федеральными органами исполнительной власти, осуществляющими функции и полномочия учредителей учрежд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 отношении государственных учреждений субъектов Российской Федерации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порядке, установленном законодательством субъектов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 отношении муниципальных учреждений 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порядке, установленном решениями органов местного само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задач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оплаты тру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ботников учреждений, ориентированной на достижение конкретных показателей качества и количества оказываемых государственных (муниципальных) услуг (выполнения рабо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здание прозрачного механизма оплаты тру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уководителей 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тие кадрового потенц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ботников 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зационных и правовых условий для достижения целевых показателей уровня средней заработной пл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ьных категорий работников, определенных Указом Президента Российской Федерации от 7 мая 2012 г. N 597 и Указом Президента Российской Федерации от 1 июня 2012 г. N 76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«Эффективного контрак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ый контракт - это трудовой договор с работником, в котором конкретизир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жностные обяза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оплаты тр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ы социальной поддерж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м для трудовых отношений является ТРУДОВОЙ ДОГОВО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т. 56 Трудового кодекса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язательные для включения условия (ст. 57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то рабо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ая функц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а начала рабо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оплаты тру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рабочего времени и времени отдых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ющие характер работы услов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об обязательном социальном страх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полнения в 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жностные обязанност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для определения случаев выполнения работников дополнительной работы за дополнительную оплату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и и критерии оценки тру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заработной платы от сложности выполняемой работы, количества и качества затраченного труда (т.е. стимулирующая оплата за результа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введении «эффективного контракта» предусматр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дополнительного соглашения к действующему трудовому договору (уведомление не позднее, чем за 2 меся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 соответствующего нового трудового дого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Если в трудовом договоре отсутствовали условия, предусмотренные ст. 57 ТК РФ, необходимо их включить в дополнительное соглаш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ные направления для разработк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елей эффективности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42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дополнительных проектов (экскурсионные и экспедиционные программы, групповые и индивидуальные учебные проекты обучающихся, социальные проекты,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зация (участие) системных исследований, мониторинга индивидуальных достижений обучающ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мероприятий, обеспечивающих взаимодействие с родителями обучающ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астие педагога в разработке и реализации основной образовательн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зация физкультурно-оздоровительной и спортивной рабо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с детьми из социально неблагополучных сем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элементов образовательной инфраструктуры (оформление кабинета, музея и пр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формлении трудовых отношений с работником учреждения рекомендуется пересмотреть на предмет актуальн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у оплаты труда работников (включая размеры окладов (должностных окладов), ставок заработной платы, доплат, надбаво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у нормирования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труда работников по итогам аттестации рабочих мест, а также иные особые условия труда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жим рабочего времени и времени отды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атное расписание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, определяющие в необходимых случаях характер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реализаци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 этап (2012 - 2013 год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 этап (2014 - 2015 год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I этап (2016 - 2018 год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чение всех этапов будут проводиться мониторинги и статистическое наблюдение, предусмотренные планом мероприяти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 этап (2012 - 2013 г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нормативной правовой базы для реализации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оплаты труда категориям работников учреждений, определенных указами Президента Российской Федерации от 7 мая 2012 г. N 597 и от 1 июня 2012 г. N 7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мероприятий по обеспечению взаимодействия федеральных органов исполнительной власти и органов исполнительной власти субъектов Российской Федерации при координации мероприятий по повышению оплаты труда отдельных категорий работников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федерального статистического наблюдения в целях формирования официальной статистической информации о средней заработной плате категорий работников, в отношении которых предусмотрены мероприятия по повышению заработной платы в соответствии с указами Президента Российской Федерации от 7 мая 2012 г. N 597 и от 1 июня 2012 г. N 7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нормативной правовой базы для оценки эффективности труда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ключение трудовых договоров в связи с введением эффективного контр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ведение прозрачного механизма оплаты труда руководителей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именование должно содер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-правов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образовательной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зание на собственника имущества (для 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I этап (2014 - 2015 г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уализация (разработка) показателей 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ятельности работников учреждений для обеспечения увязки оплаты труда с повышением качества предоставляемых государственных (муниципальных) услуг (выполнения рабо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ключение трудовых договоров с работниками учреждений в связи с введением эффективного контра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квалификационных требований к работник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азработка профессиональных стандартов) с учетом современных требований к качеству услуг, а также установление базовых окладов по профессиональным квалификацион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I этап (2016 - 2018 го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завершение работы по заключению трудовых договор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 работниками учреждений в связи с введением эффективного контра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ение к 2018 году достижения целевых значений соотношения средней заработной платы работников, повышение оплаты труда которых предусмотрено указами Президента Российской Федерации от 7 мая 2012 г. N 597 и от 1 июня 2012 г. N 761, и средней заработной платы в субъектах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менование 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числу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обязательных све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казываемых в наименовании образовательной организации по ее желанию и (или) желанию ее учредителя, относятся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ние на тип для государственных и муниципальных учреждений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зенное, бюджетное, автоном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предусмотренный Законом о некоммерческих организа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ние на форму собственност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«государственная», «муниципальная» или «частна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с целью информирования потребителя образовательных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ние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осуществляемой образо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уровень и направленность образовательных программ, интеграция их различных видов, содержание образовательной программы, специальные условия реализации программ и (или) особые образовательные потребности обучающихся) или дополнительно осуществляемые функции, связанные с предоставлением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ключение в наименование официального наимен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Российская Федерация» или «Россия», а также слов, производных от этого наименования, по разрешению, выдаваемому в порядке, установленном Правительством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в наименовании имени гражданина, символ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защищенной законодательством Российской Федерации об охране интеллектуальной собственности или авторских прав, а также полного наименования иного юридического лица как части соб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у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от 29.12.2012 № 273-ФЗ «Об образовании в Российской Федерации»  ст. 25. Устав образовательной организации. Ч. 2. В уставе образовательной организации должна содержаться наряду с информацией, предусмотренной законодательством Российской Федерации, следующая информ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тип образовательной орган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учредитель или учредители образовательной орган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виды реализуемых образовательных программ с указанием уровня образования и (или) направл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труктура и компетенция органов управления образовательной организацией, порядок их формирования и сроки полномоч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ое включение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З РФ«О некоммерческих организаци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З РФ«Об автономных учреждени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«О некоммерческих организациях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некоммерческой организации, содержащее указание на характер ее деятельности и организационно-правовую форму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хождения некоммерческой организации, порядок управления деятельностью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 цели деятельност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лиалах и представительства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членов (в рассматриваемом случае – учредителя или учредителей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ормирования имущества некоммерческой организаци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несения изменений в учредительные документы некоммерческой организаци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спользования имущества в случае ликвидации некоммерческой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щение информации об образовате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на сайте в сети «Интернет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едеральный закон от 29.12.2012 № 273-ФЗ «Об образовании в Российской Федерации» ст. 29. Информационная открытость образовательной орган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18.04.2012 № 343 «Об утверждении правил размещения в сети Интернет и обновления информации об образовательном учреждении» (</a:t>
            </a:r>
            <a:r>
              <a:rPr b="0" i="1" lang="ru-RU" sz="2200" spc="-1" strike="noStrike">
                <a:solidFill>
                  <a:srgbClr val="ff0000"/>
                </a:solidFill>
                <a:latin typeface="Times New Roman"/>
              </a:rPr>
              <a:t>утратило силу!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10.07.2013 № 582 «Об утверждении правил размещения на официальном сайте образовательной организации в информационно-телекоммуникационной сети «Интернет» и обновления информации об образовательной организации»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каз Минобрнауки России от 14.06.2013 № 462 «Об утверждении порядка проведения самообследования образовательной организацией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7:18:19Z</dcterms:created>
  <dc:creator>Admin</dc:creator>
  <dc:description/>
  <dc:language>en-US</dc:language>
  <cp:lastModifiedBy>rrmv-u5</cp:lastModifiedBy>
  <dcterms:modified xsi:type="dcterms:W3CDTF">2014-03-07T08:28:49Z</dcterms:modified>
  <cp:revision>18</cp:revision>
  <dc:subject/>
  <dc:title>Развитие кадрового потенциала и материально-технического обеспечения  как условие введение и реализации ФГОС ДО </dc:title>
</cp:coreProperties>
</file>